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214-7F69-443B-BDBD-C1E0BDF2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A88-6B85-4E20-98E3-B446A107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790ED-261E-4D28-9263-66102837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BDEC8-A6F9-4C4F-A0C9-67BEC431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BB18E-E9DA-48E8-9460-7AEFDF73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9087F-7421-4DB6-81D2-DAE166FE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7CB5E-5994-4D4C-8CF2-D32AB99B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8A86B-6935-434D-AA81-2C033A11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35B4A-31E9-4074-9BF8-CA909795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FB590-B612-4E79-A4CE-ED7A2D3B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AB94D-7180-43F5-B983-CA4C63FF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B253C-F3A6-446C-AC7F-4208E33A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125-D3E1-4AD6-8AB3-2312E0F8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1FDFE-E749-470C-992C-7FAC021A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47B4D-B44A-4DAD-9184-285F1D42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98792-D845-4531-9A3D-EE1218CE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429B6-15B2-496B-9838-81A6901E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5FEC6-B61E-442A-AD0F-72E29AF9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D4485-86E9-4104-B756-24DF98C8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00FB0-E2F9-4F49-BB79-95087838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2A1B5-CA24-4E3C-929F-D05E9719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BD38E-5DAA-4C0A-98B1-86C30B2C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4B653-4953-4383-81F1-59ED69F0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6A4-DB09-464E-8E0C-7614965B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6B0C1-757B-4433-84FF-B7656286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94086-F2BB-48B2-B17F-DA058ABF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65CA5-4936-44AE-9E12-4F6E4D73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28E2A-939C-4766-AFCF-1FF254B8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FD88B-E559-4917-8019-76530440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3E0C7-DB8A-491D-9821-4BE6736C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C8BFA-7A94-4785-AD23-2F051786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A7389-892E-4764-B9BB-8D3B73D7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F95E1-5DD8-4BCD-9ECB-4C53240C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98893-B5DD-434B-876A-62EEA5EE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DD3D-9F60-4B2E-B45E-58F2F18E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3CD18-95E7-4125-8F4E-E4170C5A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D0F7D-AFD9-4F8E-B26F-E67DFCA4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420A5-5350-44C9-819E-E94F23CF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C9993-4A8A-4BF7-90B0-A4A840C6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D6983-8D78-41A8-86F9-D1CBA435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66709-52D2-4683-9BCC-318FF093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36831-0202-4F2E-9519-891833AD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58A1A-F334-4BD6-8ECA-F0B74DA7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7A3B7-6485-4422-BF95-098B71AF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A7740-6924-462A-8F88-9E87378A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ACF4-A9E4-4C0D-87DE-3FDE0580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8877E-52A8-4710-A764-AB856CF1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BA948-1C42-40E4-A7AA-6958DC75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BF93C-83FC-487D-BE0B-2850E58E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EBB3D-BEEF-41CB-936C-2F3BD7B7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4FC07-7803-4A12-AC5A-960CD7C3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B41EF-27DE-44F7-AFE0-3E9AD019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3E333-A0FA-4A1E-9C08-F1F47DED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8D18E-8EBB-4EB1-AF38-5805099B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12624-51BA-4FC1-BC60-E41F131A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89FBA-E5F3-42CF-B09B-6E7C6BC4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76FA-A531-40D4-B650-32F0E911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77345-50E1-4D97-BC5E-F5CDA441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5B807-DDF2-4461-B078-940F3983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6052E-7797-4A98-B6DC-D642B694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231C4-18D6-4027-AB06-3C18D275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474D2-82B8-41FA-A29F-C461746B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FC4E8-307E-4AD1-B598-295F7D2F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D7CDA-A44C-4D78-9A50-325E423B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E6A7B3-9967-45F5-8D0E-EF96B8C3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E4AF4-A287-40C9-87A7-BA9B6C17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34EEF5-51BD-4FE4-A64F-3FA99123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E289-1A08-4348-A3F2-B453A7F2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C69C20-4D90-4991-A5F2-6BCE7E6A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362C35-1C30-4D9A-A387-7CFC6EB4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22FD0B-0BE0-42A5-8A19-0F29E904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ECF8D7-AB7F-4C5E-AFEC-2D9DBA58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C64E0-8937-47BC-8227-E3D2D173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366CD-93D7-456B-BC6C-51BAB758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38DF1D-B54B-4FD9-95F9-E03E3782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583ED6-B9D5-4B5C-927A-2C1140F4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AC6D0-414E-42FE-B2E4-973D8CDD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17685-556F-4AB6-8B11-F5B02FB6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2671-C77C-4023-9821-93D85C65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8F7F2B-1894-44FC-9910-500BE3E2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01436B-0894-498E-944E-C626E688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2ABA4-6B04-4CC3-825F-3778CF03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EB0308-32E9-4C0E-8E82-F82025A4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03938-4028-4C6F-B20A-18EE131F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5F7567-EB88-499F-AFE7-7A7AD681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5FC9A-FE9A-496C-B982-4482C3C2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6C197-9A77-4C6C-AF8F-912F0D59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FB4355-2371-4ECA-8576-6403D635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60F778-5EDA-47BB-B74F-34FD5DAE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3BF8-CFB2-4AAE-BB22-8EF40176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917F32-4295-41FC-ABAD-83B9867B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AD9DBB-14DD-436C-B132-0574119A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290BB2-FFC6-4F38-BBCD-40140BFB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69594D-535A-4B2E-A055-95965743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510458-E3B5-44D8-A9BF-F29924E3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344814-A60E-4BB0-BC22-CD612235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6B16E7-495A-4667-A7C2-058DFCF9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8CDFE6-CE0B-4883-A8E1-238694A8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9865F3-08D8-470E-856D-FEA244F9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07CFA-6833-4E50-8575-CF33D27A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AAF7-5659-4E5B-B6AD-A92664E6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4324E0-FFBD-48D0-86A5-3FACB9BF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4EA3C-36E3-4A4C-96ED-5C8F69D2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79A87C-CCA2-48DE-B2C6-45E44F60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1240A7-682C-49F4-A67B-A5D4CF54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7F77A1-9353-456F-9D0D-58E53B27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C573C4-DDED-4F14-BE90-4612572D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97E4F5-8E0E-4C1F-B6A6-6F621E30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6E4546-5675-43C8-B57C-58E6CEB8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AE8645-574F-40F7-80B9-390B66E5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69FBD3-8015-4D17-BB79-EAF8AC0D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A4E-8BFF-4372-81DC-1FF16FF4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997C-80E0-4B77-BE7C-0D4DFA34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75988-85A2-4406-8922-992889E0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6388BD-6F82-4BBC-AE18-B4427990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B37167-21DE-4785-90D6-9C438264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9FFBED-26EC-4E9C-A551-598FCE6E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AD24F7-B915-4721-BF45-AC573D38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DBDFE8-5C2D-4923-930E-77A2F7E3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10F629-22DC-4EDA-B3F1-823F68F1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D2D12D-369F-40B4-BF51-8FD0BCAF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1CB6E1-0B27-487E-9A5D-FF405DB3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9466A8-2CAC-4ABE-8C19-A7C508D4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BBA1-1136-4018-9234-0EDEA20D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B96047-9BB1-4A43-B7FF-314765BE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44950A-DA3D-42D0-B657-239DC2B1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568E70-8382-4C94-88C1-971E5F28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D77F1A-A479-4F69-BB36-1D42553E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EF9912-BC01-4C27-95C3-B84420AA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95BD26-3237-447A-B3E9-532680EA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686E73-E053-4011-8594-AAE47817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95DB1E-42C5-49D9-86C0-80AC4239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C8257B-F17C-48D9-B5B3-3E9DE6D1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05E3B3-755C-4534-80F5-E13151C8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BF71-2FEF-4704-92B2-072D9202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D4FA27-8A19-402C-AD48-D60F37C8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B1409C-23AC-4338-B0DB-F5BA8235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039109-D2C8-4470-810C-9A817661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DAACC5-31BF-4804-8017-7830FDE4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5FF61D-6D5A-4421-87B5-5DC6E228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5B0024-9C08-45F9-9C47-DA86B386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1B2D65-F329-40BC-BF61-AEF7E11E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780496-C326-4305-89E7-539FB941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A7365C-4DA5-43D8-9E8B-68067986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BEDF28-FFB0-447F-B1B9-C046CFCF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8ABA-7294-49A6-955D-26A65079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88E4E9-FBE4-40E9-8318-583354EF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6FF164-61DA-4FDA-8C98-2407CCCF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AEA3C4-3A8C-474D-8C56-1C6F0640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0162B2-9182-453B-9FFB-6CBEBD20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E8D0AE-527F-4934-A768-FD322B1D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63477D-CDDB-4083-B9D7-283F824C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3D2A44-CE5E-4CCF-B74C-70F3B637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62F160-1519-4BA6-BA18-F4BFA8CB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E9610B-35AF-40E9-A39B-F4FA007F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95B7CD-1006-470E-B149-1D14D2F9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7E0D-E76E-43C9-98C4-285FE80E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EE629C-481F-460B-A69C-BF5A644B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7D9C9D-4DE7-44DB-9408-102BCE08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957384-AAB5-4AE2-8692-609F79E0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23FD13-1042-42B0-BD0C-E4ADBD90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716E1C-15FF-4197-9291-68185F5B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C14D01-CEB5-43F1-A218-4A31EA79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FB52DE-E8FA-4150-AB97-29391459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E7B1E7-411A-4985-B1F8-A398A6F2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F394C7-8A33-46FF-A8BE-2CB020C3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A4AC34-2BAC-471D-A64A-923A2780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7611B-0BD1-43B3-9705-D37B1318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95D7A7-C43D-443F-B875-8A0C3097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520A64-DCD8-43A8-86E9-0E46F824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175E89-2C85-4425-A232-F8DF3FF6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3DF6B-8256-48AA-9DE2-173149C2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8A46A-740B-4F03-96B7-B8966AC2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12C15-1874-46E8-9FEC-0DADD2CF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9EAE2-E9E2-4B1B-9A96-D85D6A69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E23-EB5F-4026-BFC3-CE04AFE1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6FA1A-4F3D-43A2-92E0-3EB97A4F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1C924-537C-402D-AF94-4F7A71DC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BE082-F857-4F26-B4E9-F5B2FC67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B9E55-0B08-4B2A-9F0A-92C53812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3975E-4446-4D84-853B-5AB6E7A0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26617-3499-455B-B4A3-454BB96E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005ED-8D51-44DF-AC8C-06C25408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591FD-78E8-41C5-AE73-AD70E6C9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A8E84-29A2-4CBF-8CFF-6EBCD633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AC43F-3A2F-4B5E-A32D-BF9C5BED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987-1DCF-4F62-B07D-18BF2D75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8A98-B75B-43B5-A8ED-52AFEBFB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9C50A-4B62-4168-81C1-B1E6C62B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2F69B-E9F0-43A0-970D-9F80A042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B08D4-A733-4B94-8027-24166B4F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5B362-7332-4662-A74D-4FD43E5A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27F56-2D5A-49E6-B7A6-02A2B5C2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9F040-1EA2-426D-AE6A-DC1788B5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FED35-37F2-46A1-B0DF-78DBB2E3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34999-0358-423E-8536-43EE5582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961EF-5A27-4741-8BDC-B29C9E5A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9D4D-7BE4-4336-8655-31470C9E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D31E8-591C-4502-A9E6-81310212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33EE5-FB4F-4D11-B9F2-DDAB5119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2297B-49E7-4C61-8D94-669DD996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DAF36-2F9C-4A5B-AB18-2AB10008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E2C35-F4AC-4FD5-B65C-30474B7B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99776-D707-41B5-A015-A547C08C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21BC5-DD87-4C73-B815-94C57ECE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1AC49-CF83-4851-975E-D5EFEB79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38C1F-F527-4E1F-9757-41C422E8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496DE-C899-4DE3-BB7B-54E176F3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6ECB-0526-4251-9ED9-29053341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4999C-8994-448E-9B8E-B2F6D591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104AB-DD1F-4354-82FB-49EC7027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05CD8-6EEA-4C45-B033-E01E3D0F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C4E02-E151-4CA0-9B34-50C82F0D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C3FB7-E298-4316-88D9-654E188A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C3FA1-5DB4-4A37-9BB8-58813F4D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BA6F4-FF4B-4041-8A54-23AF35A7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FAB37-FEC2-4378-8BCD-634D070A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03C3B-6A43-4464-B404-46512EA6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16187-EC54-45B2-B7E0-4DCF8CA5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7DF-84CE-4E32-A862-23D636F2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22521-F029-428F-B974-D5D75C66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7C056-5608-4186-8C5C-CF520493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0B6A3-177C-4AAA-907B-248FAE02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57C1A-597D-4FCA-9B2A-98192AA0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8507B-9FC7-4A23-81F6-ED92EE99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14CFE-E346-4C88-B8EC-B892107E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96FF3-F39B-485E-892E-C8DE9D38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71D1E-4663-404E-AD76-71BD7D3A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C2B2C-CA00-4950-94C1-1954A8EB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51174-1B31-410D-B804-C103B90B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8D7-5195-459D-BC4C-ECA7608E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DE2B0-58D7-4774-B2F3-E16CC768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3DD64-4D79-4F3B-BEE6-67238A9B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2B5BC-C5E5-4D6E-85BC-60C60FA8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1FD88-07FF-4BF5-9077-723EDD80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34105-41BC-42B9-9C63-977C4DD6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B113C-C8A1-4AF5-8A6C-6C67A38D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6D2CA-8BBE-4E37-9E28-CA2D4394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F5F2D-87B7-478A-A421-EE34816D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CD8AA-9DA7-49B3-BEEC-933F4575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D7C28-9078-4668-870C-CBE1A2B4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C7B-8D30-4B8A-B2E2-B79CE332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3854E-BDAA-48CA-8492-B842368F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721A0-1D26-4418-858D-1DD6F92F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8A783-30EE-43C9-AECA-BD35791B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36BB3-108C-4B95-A447-01B255DF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F2AFA-90BE-4D6E-959D-1AFFF7AA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38730-2094-4167-BC29-91611A05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097AF-B393-4AE2-A5C4-67BA48FB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B878F-9070-4FE4-B845-CF3457D0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E3535-0C73-4055-B55A-E0587571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3B3F3-F59C-4720-9E20-F66BFBAE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44F1-0F0A-487B-B7E7-114E77D361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3E8A-A532-406A-BD71-36A985FEE2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39A6-80B2-4788-8EF0-11092A6905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A273-EC66-460A-B22F-154A8F3F4A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6083-1DBB-4ED6-8421-331FC78952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1671-B5A6-40AF-BA54-2106CAEEF5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E497-9B47-4FB1-AC39-4EC05F1CB2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DB91-08C4-49A1-98EC-5FBD8BD6B3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8B8B-1C0A-4853-A3BE-79ED2BCC74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CE3C-403D-4009-9E96-BED6E79E42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E396-6E9B-4E7B-A50D-EC5C6DC41D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66C6-6171-4D50-A167-99D321EA51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AE31-0054-457A-9987-C261FC63B4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89DE-AD80-4524-AC0A-7CC3D905BF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DF9C-F626-4CBD-87CC-508628D1F7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508A-E87B-4E03-A791-700C72AB18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CE95-99E7-4458-B2EC-A8CC98BE7C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A691-C974-4849-8F2A-F8614AA83C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043B-C584-4E0A-88EB-19D733B03F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AADA-1AD9-43B6-B381-12C7A528E0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5765-247A-47A2-9741-DACC41F793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B61A-F7AD-4BFA-AF61-EF7948F0C0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CEAA-6A2B-41AE-A09C-BDC7548629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8A95-B327-46CB-8FD5-CF118F502B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75A1-4C5E-49E1-80DD-B7D0C163CA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94FD-13A0-4679-8134-DBC7C559D0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E465-8AC2-4983-A043-E395D79229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C1F3-1ED0-4CA5-9001-7F7FB10CF6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0DC6-DB67-44D8-BB9B-49BDD0F4F2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B6EE-4294-45FE-9C67-ACC8389440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8CB8-32BB-4763-AA61-4A5CECF9C6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1653-A81B-4DAA-988A-3D8DAFC8FD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7933-8A2A-4654-B6E5-595A8AC538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05FA-BEF3-4CB1-8BF7-A24C74F105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4700-E7B9-48D9-AAEC-8E323424A6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8DFB-CFB3-4950-A9FC-BA5862F6AE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CC33-CA2F-4115-8115-870507F550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D799-4B4D-45A6-AFA7-6C9065C0FA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C0B5-A94D-4548-BAE9-A5F1E9065A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A5E0-1699-4ABD-BB63-48D1A5BA8C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30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3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13.png"/><Relationship Id="rId4" Type="http://schemas.openxmlformats.org/officeDocument/2006/relationships/image" Target="../media/image35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3.png"/><Relationship Id="rId3" Type="http://schemas.openxmlformats.org/officeDocument/2006/relationships/image" Target="../media/image37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81662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图片 69633" descr=""/>
          <p:cNvPicPr/>
          <p:nvPr/>
        </p:nvPicPr>
        <p:blipFill>
          <a:blip r:embed="rId1"/>
          <a:stretch/>
        </p:blipFill>
        <p:spPr>
          <a:xfrm>
            <a:off x="200160" y="781200"/>
            <a:ext cx="8743680" cy="52956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2"/>
          <a:stretch/>
        </p:blipFill>
        <p:spPr>
          <a:xfrm>
            <a:off x="6170760" y="2060640"/>
            <a:ext cx="415800" cy="3697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3"/>
          <a:stretch/>
        </p:blipFill>
        <p:spPr>
          <a:xfrm>
            <a:off x="5940360" y="4869000"/>
            <a:ext cx="41616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图片 68609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10480" cy="210528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68610" descr=""/>
          <p:cNvPicPr/>
          <p:nvPr/>
        </p:nvPicPr>
        <p:blipFill>
          <a:blip r:embed="rId2"/>
          <a:stretch/>
        </p:blipFill>
        <p:spPr>
          <a:xfrm>
            <a:off x="3203640" y="3500280"/>
            <a:ext cx="2448000" cy="24289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3"/>
          <a:stretch/>
        </p:blipFill>
        <p:spPr>
          <a:xfrm>
            <a:off x="7970760" y="2133720"/>
            <a:ext cx="4888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图片 67585" descr=""/>
          <p:cNvPicPr/>
          <p:nvPr/>
        </p:nvPicPr>
        <p:blipFill>
          <a:blip r:embed="rId1"/>
          <a:stretch/>
        </p:blipFill>
        <p:spPr>
          <a:xfrm>
            <a:off x="3059280" y="4076640"/>
            <a:ext cx="2962080" cy="2486160"/>
          </a:xfrm>
          <a:prstGeom prst="rect">
            <a:avLst/>
          </a:prstGeom>
          <a:ln w="0">
            <a:noFill/>
          </a:ln>
        </p:spPr>
      </p:pic>
      <p:pic>
        <p:nvPicPr>
          <p:cNvPr id="1081" name="图片 67586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8629560" cy="27810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3"/>
          <a:stretch/>
        </p:blipFill>
        <p:spPr>
          <a:xfrm>
            <a:off x="4643280" y="3327480"/>
            <a:ext cx="10810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图片 66561" descr=""/>
          <p:cNvPicPr/>
          <p:nvPr/>
        </p:nvPicPr>
        <p:blipFill>
          <a:blip r:embed="rId1"/>
          <a:stretch/>
        </p:blipFill>
        <p:spPr>
          <a:xfrm>
            <a:off x="325440" y="185760"/>
            <a:ext cx="8639280" cy="64864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2"/>
          <a:stretch/>
        </p:blipFill>
        <p:spPr>
          <a:xfrm>
            <a:off x="669960" y="5661000"/>
            <a:ext cx="2448000" cy="434880"/>
          </a:xfrm>
          <a:prstGeom prst="rect">
            <a:avLst/>
          </a:prstGeom>
          <a:ln w="0">
            <a:noFill/>
          </a:ln>
        </p:spPr>
      </p:pic>
      <p:grpSp>
        <p:nvGrpSpPr>
          <p:cNvPr id="1085" name="组合 66565"/>
          <p:cNvGrpSpPr/>
          <p:nvPr/>
        </p:nvGrpSpPr>
        <p:grpSpPr>
          <a:xfrm>
            <a:off x="3362400" y="2986200"/>
            <a:ext cx="2919240" cy="2028600"/>
            <a:chOff x="3362400" y="2986200"/>
            <a:chExt cx="2919240" cy="2028600"/>
          </a:xfrm>
        </p:grpSpPr>
        <p:pic>
          <p:nvPicPr>
            <p:cNvPr id="1086" name="图片 66563" descr=""/>
            <p:cNvPicPr/>
            <p:nvPr/>
          </p:nvPicPr>
          <p:blipFill>
            <a:blip r:embed="rId3"/>
            <a:stretch/>
          </p:blipFill>
          <p:spPr>
            <a:xfrm>
              <a:off x="3776760" y="2986200"/>
              <a:ext cx="2504880" cy="20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Picture 1" descr=""/>
            <p:cNvPicPr/>
            <p:nvPr/>
          </p:nvPicPr>
          <p:blipFill>
            <a:blip r:embed="rId4"/>
            <a:stretch/>
          </p:blipFill>
          <p:spPr>
            <a:xfrm>
              <a:off x="3362400" y="3730680"/>
              <a:ext cx="488880" cy="43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8" name="Picture 1" descr=""/>
          <p:cNvPicPr/>
          <p:nvPr/>
        </p:nvPicPr>
        <p:blipFill>
          <a:blip r:embed="rId5"/>
          <a:stretch/>
        </p:blipFill>
        <p:spPr>
          <a:xfrm>
            <a:off x="3132000" y="5646600"/>
            <a:ext cx="5832720" cy="4352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6"/>
          <a:stretch/>
        </p:blipFill>
        <p:spPr>
          <a:xfrm>
            <a:off x="755640" y="6237360"/>
            <a:ext cx="583236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图片 65537" descr=""/>
          <p:cNvPicPr/>
          <p:nvPr/>
        </p:nvPicPr>
        <p:blipFill>
          <a:blip r:embed="rId1"/>
          <a:stretch/>
        </p:blipFill>
        <p:spPr>
          <a:xfrm>
            <a:off x="214200" y="71280"/>
            <a:ext cx="8715600" cy="671544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753080" cy="434880"/>
          </a:xfrm>
          <a:prstGeom prst="rect">
            <a:avLst/>
          </a:prstGeom>
          <a:ln w="0">
            <a:noFill/>
          </a:ln>
        </p:spPr>
      </p:pic>
      <p:pic>
        <p:nvPicPr>
          <p:cNvPr id="1092" name="图片 65539" descr=""/>
          <p:cNvPicPr/>
          <p:nvPr/>
        </p:nvPicPr>
        <p:blipFill>
          <a:blip r:embed="rId3"/>
          <a:stretch/>
        </p:blipFill>
        <p:spPr>
          <a:xfrm>
            <a:off x="5635800" y="1757520"/>
            <a:ext cx="3190680" cy="23619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4"/>
          <a:stretch/>
        </p:blipFill>
        <p:spPr>
          <a:xfrm>
            <a:off x="755640" y="2319480"/>
            <a:ext cx="4753080" cy="4348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5"/>
          <a:stretch/>
        </p:blipFill>
        <p:spPr>
          <a:xfrm>
            <a:off x="468360" y="2909880"/>
            <a:ext cx="4753080" cy="4348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6"/>
          <a:stretch/>
        </p:blipFill>
        <p:spPr>
          <a:xfrm>
            <a:off x="684360" y="3500280"/>
            <a:ext cx="4752720" cy="4352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7"/>
          <a:stretch/>
        </p:blipFill>
        <p:spPr>
          <a:xfrm>
            <a:off x="395280" y="4076640"/>
            <a:ext cx="4753080" cy="43488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8"/>
          <a:stretch/>
        </p:blipFill>
        <p:spPr>
          <a:xfrm>
            <a:off x="539640" y="4653000"/>
            <a:ext cx="4753080" cy="43488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9"/>
          <a:stretch/>
        </p:blipFill>
        <p:spPr>
          <a:xfrm>
            <a:off x="539640" y="5186520"/>
            <a:ext cx="4753080" cy="4348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10"/>
          <a:stretch/>
        </p:blipFill>
        <p:spPr>
          <a:xfrm>
            <a:off x="539640" y="5776920"/>
            <a:ext cx="4753080" cy="43488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11"/>
          <a:stretch/>
        </p:blipFill>
        <p:spPr>
          <a:xfrm>
            <a:off x="468360" y="6365880"/>
            <a:ext cx="611964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图片 64513" descr=""/>
          <p:cNvPicPr/>
          <p:nvPr/>
        </p:nvPicPr>
        <p:blipFill>
          <a:blip r:embed="rId1"/>
          <a:stretch/>
        </p:blipFill>
        <p:spPr>
          <a:xfrm>
            <a:off x="250920" y="1158840"/>
            <a:ext cx="8638920" cy="2486160"/>
          </a:xfrm>
          <a:prstGeom prst="rect">
            <a:avLst/>
          </a:prstGeom>
          <a:ln w="0">
            <a:noFill/>
          </a:ln>
        </p:spPr>
      </p:pic>
      <p:pic>
        <p:nvPicPr>
          <p:cNvPr id="1102" name="图片 64514" descr=""/>
          <p:cNvPicPr/>
          <p:nvPr/>
        </p:nvPicPr>
        <p:blipFill>
          <a:blip r:embed="rId2"/>
          <a:stretch/>
        </p:blipFill>
        <p:spPr>
          <a:xfrm>
            <a:off x="944640" y="3716280"/>
            <a:ext cx="8020080" cy="278136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3"/>
          <a:stretch/>
        </p:blipFill>
        <p:spPr>
          <a:xfrm>
            <a:off x="611280" y="2290680"/>
            <a:ext cx="6408720" cy="434880"/>
          </a:xfrm>
          <a:prstGeom prst="rect">
            <a:avLst/>
          </a:prstGeom>
          <a:ln w="0">
            <a:noFill/>
          </a:ln>
        </p:spPr>
      </p:pic>
      <p:pic>
        <p:nvPicPr>
          <p:cNvPr id="1104" name="图片 64516" descr=""/>
          <p:cNvPicPr/>
          <p:nvPr/>
        </p:nvPicPr>
        <p:blipFill>
          <a:blip r:embed="rId4"/>
          <a:stretch/>
        </p:blipFill>
        <p:spPr>
          <a:xfrm>
            <a:off x="7221600" y="1193760"/>
            <a:ext cx="1647720" cy="200016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5"/>
          <a:stretch/>
        </p:blipFill>
        <p:spPr>
          <a:xfrm>
            <a:off x="468360" y="2867040"/>
            <a:ext cx="2808360" cy="43488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6"/>
          <a:stretch/>
        </p:blipFill>
        <p:spPr>
          <a:xfrm>
            <a:off x="3348000" y="2881440"/>
            <a:ext cx="3600360" cy="4348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7"/>
          <a:stretch/>
        </p:blipFill>
        <p:spPr>
          <a:xfrm>
            <a:off x="525600" y="4292640"/>
            <a:ext cx="1079280" cy="43488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8"/>
          <a:stretch/>
        </p:blipFill>
        <p:spPr>
          <a:xfrm>
            <a:off x="1635120" y="3716280"/>
            <a:ext cx="7040520" cy="15843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9"/>
          <a:stretch/>
        </p:blipFill>
        <p:spPr>
          <a:xfrm>
            <a:off x="525600" y="5445000"/>
            <a:ext cx="3600360" cy="4352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10"/>
          <a:stretch/>
        </p:blipFill>
        <p:spPr>
          <a:xfrm>
            <a:off x="4154400" y="5459400"/>
            <a:ext cx="1944720" cy="4348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11"/>
          <a:stretch/>
        </p:blipFill>
        <p:spPr>
          <a:xfrm>
            <a:off x="6156360" y="5445000"/>
            <a:ext cx="2808360" cy="4352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12"/>
          <a:stretch/>
        </p:blipFill>
        <p:spPr>
          <a:xfrm>
            <a:off x="554040" y="6035760"/>
            <a:ext cx="2808360" cy="4348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13"/>
          <a:stretch/>
        </p:blipFill>
        <p:spPr>
          <a:xfrm>
            <a:off x="3376440" y="6021360"/>
            <a:ext cx="357192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63489" descr=""/>
          <p:cNvPicPr/>
          <p:nvPr/>
        </p:nvPicPr>
        <p:blipFill>
          <a:blip r:embed="rId1"/>
          <a:stretch/>
        </p:blipFill>
        <p:spPr>
          <a:xfrm>
            <a:off x="209520" y="592200"/>
            <a:ext cx="8724960" cy="607680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826920" y="3514680"/>
            <a:ext cx="6050160" cy="434880"/>
          </a:xfrm>
          <a:prstGeom prst="rect">
            <a:avLst/>
          </a:prstGeom>
          <a:ln w="0">
            <a:noFill/>
          </a:ln>
        </p:spPr>
      </p:pic>
      <p:pic>
        <p:nvPicPr>
          <p:cNvPr id="1116" name="图片 63491" descr=""/>
          <p:cNvPicPr/>
          <p:nvPr/>
        </p:nvPicPr>
        <p:blipFill>
          <a:blip r:embed="rId3"/>
          <a:stretch/>
        </p:blipFill>
        <p:spPr>
          <a:xfrm>
            <a:off x="7007400" y="3513240"/>
            <a:ext cx="1866600" cy="21142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6049800" cy="4348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395280" y="4653000"/>
            <a:ext cx="6049800" cy="4348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468360" y="5172120"/>
            <a:ext cx="6049800" cy="4348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7"/>
          <a:stretch/>
        </p:blipFill>
        <p:spPr>
          <a:xfrm>
            <a:off x="468360" y="5762520"/>
            <a:ext cx="6049800" cy="4352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8"/>
          <a:stretch/>
        </p:blipFill>
        <p:spPr>
          <a:xfrm>
            <a:off x="468360" y="6251400"/>
            <a:ext cx="604980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图片 62465" descr=""/>
          <p:cNvPicPr/>
          <p:nvPr/>
        </p:nvPicPr>
        <p:blipFill>
          <a:blip r:embed="rId1"/>
          <a:stretch/>
        </p:blipFill>
        <p:spPr>
          <a:xfrm>
            <a:off x="714240" y="790560"/>
            <a:ext cx="7715520" cy="573408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2"/>
          <a:stretch/>
        </p:blipFill>
        <p:spPr>
          <a:xfrm>
            <a:off x="826920" y="808200"/>
            <a:ext cx="5329440" cy="43488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3"/>
          <a:stretch/>
        </p:blipFill>
        <p:spPr>
          <a:xfrm>
            <a:off x="684360" y="1355760"/>
            <a:ext cx="5329080" cy="4348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5329080" cy="43488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5"/>
          <a:stretch/>
        </p:blipFill>
        <p:spPr>
          <a:xfrm>
            <a:off x="539640" y="2506680"/>
            <a:ext cx="5329440" cy="100800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6"/>
          <a:stretch/>
        </p:blipFill>
        <p:spPr>
          <a:xfrm>
            <a:off x="684360" y="3587760"/>
            <a:ext cx="5329080" cy="4348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7"/>
          <a:stretch/>
        </p:blipFill>
        <p:spPr>
          <a:xfrm>
            <a:off x="826920" y="4149720"/>
            <a:ext cx="5329440" cy="79200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8"/>
          <a:stretch/>
        </p:blipFill>
        <p:spPr>
          <a:xfrm>
            <a:off x="755640" y="5084640"/>
            <a:ext cx="6264360" cy="792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9"/>
          <a:stretch/>
        </p:blipFill>
        <p:spPr>
          <a:xfrm>
            <a:off x="755640" y="6035760"/>
            <a:ext cx="53290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0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0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5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0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61441" descr=""/>
          <p:cNvPicPr/>
          <p:nvPr/>
        </p:nvPicPr>
        <p:blipFill>
          <a:blip r:embed="rId1"/>
          <a:stretch/>
        </p:blipFill>
        <p:spPr>
          <a:xfrm>
            <a:off x="561960" y="1638360"/>
            <a:ext cx="8020080" cy="35812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280360" cy="7923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468360" y="2535120"/>
            <a:ext cx="6119640" cy="4352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4"/>
          <a:stretch/>
        </p:blipFill>
        <p:spPr>
          <a:xfrm>
            <a:off x="395280" y="3068640"/>
            <a:ext cx="6120000" cy="4348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5"/>
          <a:stretch/>
        </p:blipFill>
        <p:spPr>
          <a:xfrm>
            <a:off x="395280" y="3645000"/>
            <a:ext cx="6120000" cy="4348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6"/>
          <a:stretch/>
        </p:blipFill>
        <p:spPr>
          <a:xfrm>
            <a:off x="539640" y="4221000"/>
            <a:ext cx="6120000" cy="4352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7"/>
          <a:stretch/>
        </p:blipFill>
        <p:spPr>
          <a:xfrm>
            <a:off x="468360" y="4797360"/>
            <a:ext cx="2951280" cy="4348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8"/>
          <a:stretch/>
        </p:blipFill>
        <p:spPr>
          <a:xfrm>
            <a:off x="3433680" y="4797360"/>
            <a:ext cx="2951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7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2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7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2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7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2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7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1633680" y="1666800"/>
            <a:ext cx="5876640" cy="35244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6948360" y="33433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2022480" y="378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3132000" y="4710240"/>
            <a:ext cx="352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59410" descr=""/>
          <p:cNvPicPr/>
          <p:nvPr/>
        </p:nvPicPr>
        <p:blipFill>
          <a:blip r:embed="rId1"/>
          <a:stretch/>
        </p:blipFill>
        <p:spPr>
          <a:xfrm>
            <a:off x="1643040" y="1119240"/>
            <a:ext cx="585792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58373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5896080" cy="62676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2743200" y="270000"/>
            <a:ext cx="4060800" cy="409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684360" y="706320"/>
            <a:ext cx="792000" cy="4096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533600" y="692280"/>
            <a:ext cx="4060800" cy="4093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611280" y="1154160"/>
            <a:ext cx="4060800" cy="4096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539640" y="1628640"/>
            <a:ext cx="4060800" cy="13687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755640" y="2982960"/>
            <a:ext cx="4464000" cy="4096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8"/>
          <a:stretch/>
        </p:blipFill>
        <p:spPr>
          <a:xfrm>
            <a:off x="5219640" y="2997360"/>
            <a:ext cx="2016360" cy="409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9"/>
          <a:stretch/>
        </p:blipFill>
        <p:spPr>
          <a:xfrm>
            <a:off x="223920" y="3414600"/>
            <a:ext cx="1295280" cy="4096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0"/>
          <a:stretch/>
        </p:blipFill>
        <p:spPr>
          <a:xfrm>
            <a:off x="1547640" y="3429000"/>
            <a:ext cx="3456000" cy="4096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1"/>
          <a:stretch/>
        </p:blipFill>
        <p:spPr>
          <a:xfrm>
            <a:off x="5018040" y="3429000"/>
            <a:ext cx="2016000" cy="4096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2"/>
          <a:stretch/>
        </p:blipFill>
        <p:spPr>
          <a:xfrm>
            <a:off x="684360" y="3875040"/>
            <a:ext cx="3958920" cy="4096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3"/>
          <a:stretch/>
        </p:blipFill>
        <p:spPr>
          <a:xfrm>
            <a:off x="4716360" y="3875040"/>
            <a:ext cx="2016360" cy="4096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4"/>
          <a:stretch/>
        </p:blipFill>
        <p:spPr>
          <a:xfrm>
            <a:off x="539640" y="4365720"/>
            <a:ext cx="39592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57352" descr=""/>
          <p:cNvPicPr/>
          <p:nvPr/>
        </p:nvPicPr>
        <p:blipFill>
          <a:blip r:embed="rId1"/>
          <a:stretch/>
        </p:blipFill>
        <p:spPr>
          <a:xfrm>
            <a:off x="1609560" y="1190520"/>
            <a:ext cx="5924880" cy="447696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57353" descr=""/>
          <p:cNvPicPr/>
          <p:nvPr/>
        </p:nvPicPr>
        <p:blipFill>
          <a:blip r:embed="rId2"/>
          <a:stretch/>
        </p:blipFill>
        <p:spPr>
          <a:xfrm>
            <a:off x="2959200" y="3498840"/>
            <a:ext cx="30286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56324" descr=""/>
          <p:cNvPicPr/>
          <p:nvPr/>
        </p:nvPicPr>
        <p:blipFill>
          <a:blip r:embed="rId1"/>
          <a:stretch/>
        </p:blipFill>
        <p:spPr>
          <a:xfrm>
            <a:off x="1628640" y="1087560"/>
            <a:ext cx="5886720" cy="49338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3564000" y="1095480"/>
            <a:ext cx="410364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4457880" cy="384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5940360" y="1557360"/>
            <a:ext cx="2592360" cy="384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468360" y="1989000"/>
            <a:ext cx="3743280" cy="384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6"/>
          <a:stretch/>
        </p:blipFill>
        <p:spPr>
          <a:xfrm>
            <a:off x="4284720" y="1989000"/>
            <a:ext cx="3600360" cy="384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7"/>
          <a:stretch/>
        </p:blipFill>
        <p:spPr>
          <a:xfrm>
            <a:off x="1332000" y="2435400"/>
            <a:ext cx="4319640" cy="384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8"/>
          <a:stretch/>
        </p:blipFill>
        <p:spPr>
          <a:xfrm>
            <a:off x="5796000" y="2435400"/>
            <a:ext cx="2592360" cy="384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9"/>
          <a:stretch/>
        </p:blipFill>
        <p:spPr>
          <a:xfrm>
            <a:off x="900000" y="2909880"/>
            <a:ext cx="2087640" cy="384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0"/>
          <a:stretch/>
        </p:blipFill>
        <p:spPr>
          <a:xfrm>
            <a:off x="3059280" y="2909880"/>
            <a:ext cx="4968720" cy="384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1"/>
          <a:stretch/>
        </p:blipFill>
        <p:spPr>
          <a:xfrm>
            <a:off x="1403280" y="3357720"/>
            <a:ext cx="4969080" cy="1295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12"/>
          <a:stretch/>
        </p:blipFill>
        <p:spPr>
          <a:xfrm>
            <a:off x="1547640" y="4710240"/>
            <a:ext cx="3456000" cy="384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3"/>
          <a:stretch/>
        </p:blipFill>
        <p:spPr>
          <a:xfrm>
            <a:off x="5018040" y="4724280"/>
            <a:ext cx="2001960" cy="384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14"/>
          <a:stretch/>
        </p:blipFill>
        <p:spPr>
          <a:xfrm>
            <a:off x="7093080" y="4667400"/>
            <a:ext cx="1366560" cy="384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15"/>
          <a:stretch/>
        </p:blipFill>
        <p:spPr>
          <a:xfrm>
            <a:off x="1476360" y="5157720"/>
            <a:ext cx="511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16"/>
          <a:stretch/>
        </p:blipFill>
        <p:spPr>
          <a:xfrm>
            <a:off x="6602400" y="5127480"/>
            <a:ext cx="1366920" cy="3844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17"/>
          <a:stretch/>
        </p:blipFill>
        <p:spPr>
          <a:xfrm>
            <a:off x="1332000" y="5603760"/>
            <a:ext cx="511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55300" descr=""/>
          <p:cNvPicPr/>
          <p:nvPr/>
        </p:nvPicPr>
        <p:blipFill>
          <a:blip r:embed="rId1"/>
          <a:stretch/>
        </p:blipFill>
        <p:spPr>
          <a:xfrm>
            <a:off x="209520" y="723960"/>
            <a:ext cx="8724960" cy="335268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55301" descr=""/>
          <p:cNvPicPr/>
          <p:nvPr/>
        </p:nvPicPr>
        <p:blipFill>
          <a:blip r:embed="rId2"/>
          <a:stretch/>
        </p:blipFill>
        <p:spPr>
          <a:xfrm>
            <a:off x="3419640" y="4514760"/>
            <a:ext cx="2181240" cy="18669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8259840" y="3255840"/>
            <a:ext cx="4744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54276" descr=""/>
          <p:cNvPicPr/>
          <p:nvPr/>
        </p:nvPicPr>
        <p:blipFill>
          <a:blip r:embed="rId1"/>
          <a:stretch/>
        </p:blipFill>
        <p:spPr>
          <a:xfrm>
            <a:off x="228600" y="907920"/>
            <a:ext cx="8686800" cy="325764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54277" descr=""/>
          <p:cNvPicPr/>
          <p:nvPr/>
        </p:nvPicPr>
        <p:blipFill>
          <a:blip r:embed="rId2"/>
          <a:stretch/>
        </p:blipFill>
        <p:spPr>
          <a:xfrm>
            <a:off x="2411280" y="4452840"/>
            <a:ext cx="4562640" cy="20005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8231040" y="85104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2282760" y="3645000"/>
            <a:ext cx="47484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52231" descr=""/>
          <p:cNvPicPr/>
          <p:nvPr/>
        </p:nvPicPr>
        <p:blipFill>
          <a:blip r:embed="rId1"/>
          <a:stretch/>
        </p:blipFill>
        <p:spPr>
          <a:xfrm>
            <a:off x="214200" y="1724040"/>
            <a:ext cx="8715600" cy="34099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2"/>
          <a:stretch/>
        </p:blipFill>
        <p:spPr>
          <a:xfrm>
            <a:off x="395280" y="2679840"/>
            <a:ext cx="4681440" cy="3697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380880" y="3156120"/>
            <a:ext cx="4105440" cy="3697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4"/>
          <a:stretch/>
        </p:blipFill>
        <p:spPr>
          <a:xfrm>
            <a:off x="4500720" y="3141720"/>
            <a:ext cx="2592360" cy="3697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5"/>
          <a:stretch/>
        </p:blipFill>
        <p:spPr>
          <a:xfrm>
            <a:off x="611280" y="3659040"/>
            <a:ext cx="3889440" cy="6336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6"/>
          <a:stretch/>
        </p:blipFill>
        <p:spPr>
          <a:xfrm>
            <a:off x="468360" y="4437000"/>
            <a:ext cx="597528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06:4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